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14F-7F89-4AF9-AABE-D7C4EB22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C8C-5440-40BE-BFFE-FDD172E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4964-6FBD-47B0-94B7-02A40A6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99649-720B-4925-A54C-25049040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F49C-5C7D-47A3-B0AB-02B50B0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2457F-B6EA-44C4-BF23-7C3D4A5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E7173-88E0-420C-A1F7-B2E4526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F18A3-C1F6-48BB-93DF-2C8E066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C1F2-E122-4349-8031-A49E3A4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CEED-FDFD-429D-89F4-A3034D0A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C97A-8D1B-4186-B435-645B9932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6DBB4-6706-4DA0-ADDE-D8B7C594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90-7ACD-4E63-B73B-28A30939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1AEC3-963C-453B-BCBF-73488CB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75CB-E085-45C6-B9E2-33F8494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D67A9-0690-42B3-8C0A-AE3AC54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9FBA4-41D9-4761-9B70-8B148497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6266A-74DB-4C02-8C7B-7A2DA03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2E1F2-02B3-475A-85F8-3F42FE7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9D2CF-25B1-4AE0-86B5-CC1B23E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91F6F-622E-455A-B13A-FB515EB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AC7A-F586-4A2D-B5F1-9813AA0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98608-0345-47DC-87E0-0EF79743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A4E-7B10-45B6-A031-9FF6035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160B-CDBD-4AF1-A6D2-088CBE9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1AF32-83B2-41BC-B5DF-1823AB7B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4D7A0-A93B-43C3-A4CC-45C8F76F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3C6C3-360B-4B98-AA47-99CAEB9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ED6AF-2BC1-467B-AD22-365FDA77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25AF-059F-4763-AE30-E85EA91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71FF-5D3E-408D-BBF0-7D45D53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832A-5AF8-483F-80A0-67FE607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55446-8F51-49F4-B5FF-0AA31F6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1417-D417-4B0F-87C0-D8A880F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604-08AC-418A-B80C-46E95186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BA66-160A-4832-AAA9-3FD7E15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D9D5C-A5C1-4245-82A5-2423940A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E4C8-C68B-4461-B4DD-8D27421C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D6F1F-8A31-4EEF-8895-356B568B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F2EB8-CC94-4F3C-B897-1631D265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301F8-7832-4915-97BB-F704749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77D89-340F-4ACC-93DD-26AA4DF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750E7-2C28-46B6-BB9F-58D9F700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CF0AE-8E0F-4272-8661-86B1E566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2474F-D172-4B8A-8B0C-35755E4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911-6604-4DFA-8D1D-58618D4A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97CFA-BFCE-4A2A-A399-A574107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300F8-39B5-4823-B80E-4770137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BBAF5-8F31-4EE5-B3F1-083FB55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CF03-6681-461F-8360-B0831ED6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E4E21-982E-4046-8B3B-EC9FBCD4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76E4A-DF5F-4BF7-9EC2-2244C5B3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810A0-1106-45AF-97CB-0DCEFEE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AD5E8-7902-441D-8AC4-19E249C5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88DF1-4DF1-44B9-BACB-79114BF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9088A-CC95-4754-9F4B-C1BC29E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E48-A9AC-4981-8864-818E5636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4A5C4-8DCF-479B-9C5F-D28C10D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5660D-6E84-4066-BE71-5497FCA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50F51-B792-478D-94BA-B789972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492F3-2073-4CD9-B5F1-2EE7086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0FEA2-2D03-4D60-AB51-659D5B7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2FD16-3C05-472C-BCF2-1713027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701CA-64AE-43FC-8FBC-7293885F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8D5F9-7952-4AE0-A5A3-5CA739DE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CFF46-6AFA-4C89-8CA6-3D6723CB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E7203-3B36-4132-AC0D-5A30AFB1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81C-3487-48B7-8701-61D9874B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4444A-EC35-4810-BF93-6E175B1C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AC682-9BFC-4638-BB37-B4730281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B932E-417D-4BDB-AF6D-AFB9BB3B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AC75D-D966-4026-AC34-9C37600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CBA06-957F-4371-A480-EABA072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4EEEF-08CF-4A87-8FE5-DFFBC5E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DED9D-C326-4E56-BBC5-E639C44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A5B6B-8306-4A67-B5EC-02A29A25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C59EF-56A1-409D-9E7B-0A0EC5F4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37FC0-03FC-43A0-988C-2FFD93B2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C8EC-A7EB-4541-A1D4-7814AA7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C3D86-30D7-444C-9623-07D0C2C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BE5A0-1B23-42D0-9466-1D27D1E9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9A23A-37F9-4FF7-A56D-3B9B969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B0734-B1F0-441F-95DD-8B16E9E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56C72-9A4C-47D2-9E77-B9DF9C6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632CA-C5A1-4C68-8126-A186EB5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34429-C929-4BBF-928D-8795C51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0996E-3B45-4F73-8922-337D9B2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BE0AD-796B-4ABE-ADE4-E6E29C9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482C6-0772-4513-A3D5-1060471B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A6E3-95AF-4006-B82C-208F526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B2325-29B3-4427-802A-CEC2BC3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15A20-F983-40EA-BF91-09031459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30A7A-671F-416F-A4BD-3E92D73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462C6-FCA0-49D4-8D85-4819338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84381-B359-4CB5-9A45-6EA2AFF0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9059F-6032-45CC-9A85-441E53A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80FB8-B7BE-4D0F-8A6F-9676CC7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21A1B-ABB4-4E5E-93DD-EF6EFF0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AA8DF-69CA-4BFF-9EB5-7A69F63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BB801-E227-4BBB-AA33-6002071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C383-77EA-4E25-9207-720A10D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0D98E-201E-4C0D-810F-2D74300E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BFC2F-59AD-467B-8403-D75DF11A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A3A54-975E-4D78-A79A-90DBA7A5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E5A6F-C941-4824-9AE5-DA676FD6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5E77F-DF66-47BD-AA80-58330CBB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936C7-B672-40DC-AC19-18B4BD9A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52605-6173-4F5A-A42F-C2A77F6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B46C6-961C-4773-A178-664D241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AED64-A495-4661-BFC9-DC339E62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F9A59-6609-49CF-9BE7-99010A3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71F-1881-487C-8F33-3C33F70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D6F-626B-427D-A28B-C7AC67D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46320-BC0A-4F95-802E-0EC047C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FEDBC-8DA5-4E31-B72E-63D1F78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7DD52-13C7-4300-A8C3-0F74F23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24CDF-4BAC-47F3-A802-A9438D1D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EE7BE-2CFC-48C0-929F-6352D8D1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5AE6B-2D8A-4DB1-BDF6-AC9304C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AF178-9A39-4638-B2CA-BEA89346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F4FC7-5112-461E-96C3-ACBB0159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A52D7-B8DF-44D2-89FB-1B5980B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B8D96-7580-4264-AEE6-5AF9557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4B30-57E7-4B8C-8D27-2F898189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D43CB-93D2-402B-AE08-001DEE00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5FBC3-316F-429A-A91D-C6515E4A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3A1D4-6008-47FE-8A89-52F160A3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7C850-C3E1-4024-B08B-F4DFE4B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20FB7-F001-4006-87FF-C1BA8E27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6A250-7E29-4682-98B8-F759188A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920C2-3A7C-4DA9-A652-0264CE1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4303B-B52D-4B71-B160-63442803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405F2-D6BB-4E4B-B10D-6208981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7819B-8B58-46F4-912A-1872755F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78BB-5C90-48DC-B9B3-0BCAF16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C805E-7D90-4EC9-B477-49584EF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B66F2-90D6-4397-8BA8-C8A2B01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4DCA9-2AB2-4BA5-90EB-B395D001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1C943-261E-454B-B6AC-F9E1971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8A0E3-D021-4813-8BB4-A02DE853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6AEBF-A010-4330-BF88-99DB0BA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9C9AD-0958-43B6-ABBD-1320E04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9A41C-7175-46E3-92F4-3037C103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61485-73D7-44DE-B6F4-FBE57362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D7A0C-E071-4977-BBFD-D421542B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7FDA-8F48-4F4A-9AC8-87CBB78E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7A6B3-99A1-4A3F-BF3D-150B39AF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AEDC0-317C-4174-B5D3-00754A7E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F5CAC-D752-4CD6-9A61-A2197D3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61429-64E7-445D-90F5-C558E160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D9BAF-6929-4E6E-82A6-1B18C3A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B8121-7E47-4787-A250-C5572403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FB042-E113-4122-B452-B3DDABE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F803B-7A16-402A-A9A9-A149628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2639F-5536-4F2E-8F20-39D70C5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65A32-8A15-4888-A3A4-8AEA589C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51A8-5549-4DE4-83AC-CE85E82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C15C0-9BFF-47C1-A0EB-6774546F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546E0-026A-4861-8D0D-25E7F69D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5BC45-665D-4146-96DD-4EA16DF7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447A1-BBF3-4268-A942-2D772D9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D7308-732F-4A8D-A706-9EB8FE5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DDDC9-6CAD-439D-B19E-2513C35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9F0F5-EB87-4CA6-BF24-FBD9540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5A869-2608-42FD-BA7E-A33CC40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567E5-75B0-496E-8B27-033EA15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0463B0-E817-42FD-A5EA-DFD8FFE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85B7-82C6-4ACA-B6D7-50AA242E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58E25-1346-41F2-8522-2EEA9F7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B7A11-DEFF-43D0-945F-BD19F778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2FF07-5B42-485C-8640-3F5C586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6FF96-BF1B-4DA3-A27B-6F7A9B86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0CFFC-3E6C-4E0D-AA49-E0BFF82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42DD55-33BB-4B1E-82FB-63F930F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8B37B-0F46-4726-BEEA-7FC3104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19377-0EE6-4919-BB3C-78D8031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8D86E6-F737-4B0E-9B96-F71C13F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EB202-B089-425C-949C-33E711B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06B7-1511-4B90-BA50-2B8DEA0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C2155-A581-4732-9026-BF23166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6C81E-5233-40AE-B7ED-B3E0857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2C001-8F5F-4550-AB8F-BED7F6C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22C0F-37BF-4E50-B86A-7657E107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B2A3F-2F54-40E9-AE94-CAFFB59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A27FE-2787-43A9-B8D7-F9AD4522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B1B23-99C2-44DF-9758-69D88605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3AB28-2577-420B-9E34-735C54E3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02F306-38D9-4898-8A74-6263B58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A2F8E9-B58E-41CE-B279-B8FB547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3059-D63C-44CF-B192-62F1AC16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B53FD-2662-4ADB-8C94-7068D59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E07201-91CC-48F1-A61C-499A2AA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ECC101-F4DE-430B-9151-DE2DB517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4F6CD-A436-4A93-8436-E8F24C6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148F6E-2340-4B71-B678-CAD2EED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F3446-ABCD-4B05-9C6A-45217DEB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EFAADA-3FC5-41E7-9A54-EF99FE9C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8490-0DED-4DEE-B6D1-97345E9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8ED0-B7AE-442D-87D7-E4F2584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21B-6806-4945-8FB7-AC5FE02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20B3-79E6-4622-BD87-7A5F711F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2974-5F62-4CE0-A815-405F909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DC80-3F79-4C7B-B95A-94631B4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4FBE-05F2-4B2B-B9FB-B6E5E50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9420-ADCA-470E-8756-90EB7FA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25E1-300D-4E80-968E-9EA818C7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59D5-5124-448A-AFB3-372793F6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65DF-4115-45C3-AC42-A91406BB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0682-64F0-4A50-B41C-F8762AF6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6C64-A634-4699-B2E5-59FB0DC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2AD-BD6A-4E10-92BD-E3C4ED8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CF4F-67D0-4CF8-8B19-22FE7EFE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11DE-3A19-4CF2-BE70-042CD96D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2F95-7DCC-44D2-AD0D-A3631CC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CC23-20A3-4EF0-8AD7-DC37D64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BF41-F438-4D80-98F5-282CD1F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4B7D-70AE-459F-8DA7-3CFF014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E997-4A8F-45C8-B842-2B96DEC0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06EE-5D93-4FE6-AC4B-974E5EB5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DD71-813C-4F10-8D57-A29485BF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C894-7A17-411B-A0CD-7EBA7FD9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88D-33C9-4EFE-859A-BA88954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CDF4-847C-4C52-BA98-9602F1F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57DB-DE60-44BD-8E3F-38DA62BC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5DBC-59FC-4317-A4CC-87E0B9E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210A-1C82-4570-AC60-157CE47B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93F4-AEBD-48D7-816E-7E2423B6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2B81-8BBD-4D09-AAB5-AC150C5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57E6-AAF7-4420-9578-D9F4DDF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920E-8C14-442D-8A61-D5451214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CA175-7176-4E67-A7C3-C800C1A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4488-6548-472A-B15F-EB6D7253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F02-B877-4A8B-81CA-ED17B4EE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12A0-ED35-4B96-AFD9-52A9589C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8A5E2-3AA1-4117-B0F1-DC39D198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29DB-F565-4145-96C4-ED0FD23E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F80B-DB6A-42FF-BC6E-3FEFC68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6C38-CAE7-4565-85C5-3EA7CE7A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3341-D2C1-4FEF-9A7B-4F7B98A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ED84-43B4-4BDD-A1CE-AD0B87A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2FC6-9485-49AA-882D-BEF58E0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54C5-238A-4B3D-95E5-BD1E5C5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25503-914F-4FCF-B0A0-0A6093F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E48-F192-433C-B449-7E6DB9B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955A-6E99-41D5-9C5C-169BBB0F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728C-9C71-4592-9AAD-59D0418E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E01B-19F8-4C84-845E-1ED39523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F7F7-51DA-44EE-AD8F-930E723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16040-8FFD-455F-A862-84B2E39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DC70-0103-4AA0-B4AD-5990F00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CCC7-4054-4679-B2FD-436A1E4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5472-95A9-4902-B0E5-36A0B45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B282-8089-405F-BB25-A98D6946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6457-B46E-4B23-A7C4-F3E0B1C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26A-E369-441D-A2D7-A5E8622B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852E-8114-40A0-8E51-6BB1105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E51C-49BB-476D-A384-41BF466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4665-5646-4DE7-9915-A1D3C59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6AA2-8669-456E-B099-4034C6C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11906-0E10-4787-851B-D6F7C63B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B015-5103-48BF-922B-C7623FF2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F7C7-E7EA-43A3-854D-C9987B4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C82B-7611-4EF3-99BA-DF7F85F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D97A-A73E-4313-9292-6AF843C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4604-9182-4348-870D-C137CC9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CC6-309D-47ED-80A1-65A8DE8A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F994-B597-4174-8E96-8E2E6BAB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7916-1D57-4287-884A-8C25D689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4CB4-2F90-4968-AE16-7D05A973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4B2B-DD3A-4D43-BF1B-291F297F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1F854-871C-4A8D-B493-34E4CD6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FEC80-5644-486A-8D47-3ED99EC4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5483B-63B1-4496-9DC7-EF515FBF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6E5C-065C-44B0-95FF-D3603838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AEA9E-8735-4209-9F75-D20893B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D68F-F362-4B0A-A176-42886DB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D1D-4EBE-4432-B370-646F9C9DD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9C7-74E1-456E-9D8B-1B1517CBD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5A7-5305-47B0-AE10-E59E6C82E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D0E-15C0-442F-9DED-01DDC5C38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044C-EA85-414F-8E3E-1DF566F64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1309-07D5-451D-86DC-EF8948BB0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12A7-9642-4409-B786-DC0AB22A0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A9C7-70A4-44B0-B917-7F50171E0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1DD-0120-4B17-BBF0-9A0C5845B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77A-0524-496E-95A1-87136F0EAC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376-4646-43D5-8B59-4BE71E1B6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377-F2C0-4C49-A6E1-848FB72D8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78C0-A996-496B-B94D-D2CC41222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05F-870A-4F42-AC40-52C4F9A78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1EC-3400-4D78-8CD5-A38C0F59F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7FB-380C-481C-AA72-924B4554E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18E-C7A9-4C5F-967F-4D6A62293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AE8-AF38-437E-827F-5E820ECF7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BAC-38B5-4DCA-AA53-8468EFB04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3BC-A192-47CC-A462-C27B2675E8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D832-2F3A-40CF-A268-01FC05486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270-FB13-4E68-A0AF-C56F02A8E8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848-AEC9-400F-A608-14DD3C824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C95-304B-4FC0-A471-C93679902B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0B5B-FC8A-47BF-AA09-22CF4815DB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F2EE-F91C-4E41-81C8-0148B9995D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7B4A-A20A-49A4-B24A-4345ADE01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9CD7-7437-4F0B-A2BD-26377AA1D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488-DB0A-4C41-930D-7577203D4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F2A-5823-48F7-B923-55AA88AD8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1E4-6A7D-434F-BE26-A4A65C0F9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5E7A-1548-4ED0-9B8C-8EA698E7E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EF61-8695-480C-BE88-C19A77959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842-3743-4ACB-8E27-870ADA99FF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2E5-16FB-47C9-8492-0FB6D10B5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E2A-9F96-4C4C-87A2-A232F562A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41B-6FA0-4AF8-830D-256EECAF1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251-6AC4-479F-A6ED-0E51E9850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6BC-B201-484A-BF32-F0745194A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C7F-6CA4-496F-AA61-4D3A1B517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8C8-0D21-4A34-9AC4-05C0E5B81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30E-0464-4537-B6AB-76CC55523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81000" y="2990880"/>
            <a:ext cx="7182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55520" y="914400"/>
            <a:ext cx="1905120" cy="2952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57320" y="1359000"/>
            <a:ext cx="8827920" cy="4505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224316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522936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095480" y="2519280"/>
            <a:ext cx="6953040" cy="1819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5219640" y="280980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411280" y="309708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788000" y="339732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4519440" y="3751200"/>
            <a:ext cx="863640" cy="217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484360" y="4014720"/>
            <a:ext cx="863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95400" y="1200240"/>
            <a:ext cx="8953200" cy="4457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3780000" y="410544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900000" y="471024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195640" y="531972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942840" y="2243160"/>
            <a:ext cx="7258320" cy="2371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004760" y="1724040"/>
            <a:ext cx="7134480" cy="34099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2843280" y="2320920"/>
            <a:ext cx="223344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2124000" y="2914560"/>
            <a:ext cx="32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2484360" y="351936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4014720" y="351936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2916360" y="4130640"/>
            <a:ext cx="23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2627280" y="4724280"/>
            <a:ext cx="2160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8:0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